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1.jpeg" ContentType="image/jpeg"/>
  <Override PartName="/ppt/media/image47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1.png" ContentType="image/png"/>
  <Override PartName="/ppt/media/image30.png" ContentType="image/png"/>
  <Override PartName="/ppt/media/image42.png" ContentType="image/png"/>
  <Override PartName="/ppt/media/image31.png" ContentType="image/png"/>
  <Override PartName="/ppt/media/image29.png" ContentType="image/png"/>
  <Override PartName="/ppt/media/image43.png" ContentType="image/png"/>
  <Override PartName="/ppt/media/image32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51.png" ContentType="image/png"/>
  <Override PartName="/ppt/media/image40.png" ContentType="image/png"/>
  <Override PartName="/ppt/media/image52.png" ContentType="image/png"/>
  <Override PartName="/ppt/media/image39.png" ContentType="image/png"/>
  <Override PartName="/ppt/media/image9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6.png" ContentType="image/png"/>
  <Override PartName="/ppt/media/image36.png" ContentType="image/png"/>
  <Override PartName="/ppt/media/image34.png" ContentType="image/png"/>
  <Override PartName="/ppt/media/image4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2D81E-FA95-4607-B254-8B1651419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8600" y="1762200"/>
            <a:ext cx="814680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8600" y="4041720"/>
            <a:ext cx="814680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CA9B3-A6F3-43E5-A717-84D667E77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8600" y="176220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176220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8600" y="404172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404172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F0DCD-B5C0-4635-90C8-9DEC751F3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8600" y="1762200"/>
            <a:ext cx="262296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2960" y="1762200"/>
            <a:ext cx="262296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7680" y="1762200"/>
            <a:ext cx="262296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8600" y="4041720"/>
            <a:ext cx="262296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2960" y="4041720"/>
            <a:ext cx="262296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7680" y="4041720"/>
            <a:ext cx="262296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3C103-BC31-4D2B-AAAF-44F73A225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ABC31-1CC5-4C8B-8921-7CA9D3997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98600" y="1762200"/>
            <a:ext cx="8146800" cy="436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3B04C-FC5C-4A5F-BB6F-C5D7C6984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98600" y="1762200"/>
            <a:ext cx="8146800" cy="43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49981-9363-41BB-BADC-0DCC12A3B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98600" y="1762200"/>
            <a:ext cx="3975480" cy="43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160" y="1762200"/>
            <a:ext cx="3975480" cy="43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32AB8-0521-45F6-BAD1-653481E4E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CE0AD-ED90-402D-9BB7-8DF95EA77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98600" y="93240"/>
            <a:ext cx="8146800" cy="67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A6AB1-96F8-4AF3-B514-B3A75A34A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98600" y="176220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160" y="1762200"/>
            <a:ext cx="3975480" cy="43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98600" y="404172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D58B4-5754-47B1-A84A-3F2D53074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8600" y="1762200"/>
            <a:ext cx="8146800" cy="436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A2CC1-4603-427C-88A4-BCDD5E329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98600" y="1762200"/>
            <a:ext cx="3975480" cy="43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160" y="176220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160" y="404172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B96EA-6638-4657-B6AF-23B6E4240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98600" y="176220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160" y="176220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8600" y="4041720"/>
            <a:ext cx="814680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940BF-3D5F-4520-A7D7-25411AB57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98600" y="1762200"/>
            <a:ext cx="814680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8600" y="4041720"/>
            <a:ext cx="814680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92E3E-5708-40B2-AEBF-35DECAE42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98600" y="176220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160" y="176220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98600" y="404172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160" y="404172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9CABF-15CB-4112-98ED-3DE9BC0C2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98600" y="1762200"/>
            <a:ext cx="262296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52960" y="1762200"/>
            <a:ext cx="262296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07680" y="1762200"/>
            <a:ext cx="262296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98600" y="4041720"/>
            <a:ext cx="262296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52960" y="4041720"/>
            <a:ext cx="262296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07680" y="4041720"/>
            <a:ext cx="262296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9FFE9-6B39-4F84-B059-40D1723F5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676811-6AB9-44C5-A2DD-03101C2E3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98600" y="1762200"/>
            <a:ext cx="8146800" cy="436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7ACA59-4954-454B-B298-C08AA64EE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98600" y="1762200"/>
            <a:ext cx="8146800" cy="43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7FA737-6AEB-4941-B956-EF4D290E2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98600" y="1762200"/>
            <a:ext cx="3975480" cy="43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3160" y="1762200"/>
            <a:ext cx="3975480" cy="43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20FCDD-CF9F-426A-8044-8267ACAC8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396483-947B-442E-BCA8-2D04EA95C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8600" y="1762200"/>
            <a:ext cx="8146800" cy="43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2B75E-04B6-4DA1-8AD0-C8FF9577D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98600" y="93240"/>
            <a:ext cx="8146800" cy="67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B3FCE5-C1B5-49C1-979E-8CD9E9313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98600" y="176220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3160" y="1762200"/>
            <a:ext cx="3975480" cy="43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98600" y="404172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D0C49E-9F6A-49C9-86EF-7139D203D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98600" y="1762200"/>
            <a:ext cx="3975480" cy="43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3160" y="176220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3160" y="404172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7F2520-90B6-44F2-817C-94D2C6495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98600" y="176220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3160" y="176220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98600" y="4041720"/>
            <a:ext cx="814680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9BC42B-B940-407D-8C01-92A5EE0D5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98600" y="1762200"/>
            <a:ext cx="814680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98600" y="4041720"/>
            <a:ext cx="814680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FFE14F-AE51-4A50-B53D-EC9CC03B4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98600" y="176220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3160" y="176220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98600" y="404172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3160" y="404172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1F941F-7B8C-4223-9CBD-96C817BFB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98600" y="1762200"/>
            <a:ext cx="262296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52960" y="1762200"/>
            <a:ext cx="262296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07680" y="1762200"/>
            <a:ext cx="262296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98600" y="4041720"/>
            <a:ext cx="262296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52960" y="4041720"/>
            <a:ext cx="262296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07680" y="4041720"/>
            <a:ext cx="262296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7ED9F4-65E2-40A7-A2EC-62D220AB6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6C1050-CE4C-45B5-B870-890914197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98600" y="1762200"/>
            <a:ext cx="8146800" cy="436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753FEF-3D68-406D-8395-3F8A6F10C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98600" y="1762200"/>
            <a:ext cx="8146800" cy="43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CDEFE0-0E35-4D10-A495-02D800B93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8600" y="1762200"/>
            <a:ext cx="3975480" cy="43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1762200"/>
            <a:ext cx="3975480" cy="43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19490-B7F6-45B6-898A-D12EFA08C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98600" y="1762200"/>
            <a:ext cx="3975480" cy="43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3160" y="1762200"/>
            <a:ext cx="3975480" cy="43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17E866-6334-4A8D-8963-696828151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ADA701-83ED-4590-8F8D-4289B263A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98600" y="93240"/>
            <a:ext cx="8146800" cy="67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B74272-E987-4BAB-8BCF-5282629B8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98600" y="176220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3160" y="1762200"/>
            <a:ext cx="3975480" cy="43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98600" y="404172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95A614-CFC5-489F-A51E-C84617A84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98600" y="1762200"/>
            <a:ext cx="3975480" cy="43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3160" y="176220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3160" y="404172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C45CBF-AFD3-451B-BD1F-5B6F6168A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98600" y="176220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3160" y="176220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98600" y="4041720"/>
            <a:ext cx="814680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3D5E3E-7192-4DF1-BF6F-386B9E00E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98600" y="1762200"/>
            <a:ext cx="814680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98600" y="4041720"/>
            <a:ext cx="814680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0842BA-422C-4FDF-A057-69E930C76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98600" y="176220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3160" y="176220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98600" y="404172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3160" y="404172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6C99FC-A254-4457-AA83-8C3A4177B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98600" y="1762200"/>
            <a:ext cx="262296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52960" y="1762200"/>
            <a:ext cx="262296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07680" y="1762200"/>
            <a:ext cx="262296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98600" y="4041720"/>
            <a:ext cx="262296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52960" y="4041720"/>
            <a:ext cx="262296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07680" y="4041720"/>
            <a:ext cx="262296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91F6D3-1912-4BB5-8ADD-D5CB38B9A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B5EF91-27D3-44DF-BFD2-BF2D66E0B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D26CB-E68D-48A9-9B99-3813C9DB2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498600" y="1762200"/>
            <a:ext cx="8146800" cy="436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71E29A-EE79-4137-873A-47CB7210C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98600" y="1762200"/>
            <a:ext cx="8146800" cy="43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1DC98C-0A69-4B0F-BB45-56CE2CB02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98600" y="1762200"/>
            <a:ext cx="3975480" cy="43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3160" y="1762200"/>
            <a:ext cx="3975480" cy="43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F4557D-FFCB-4CC4-ADAD-39300541F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9DC5C0-31DF-49B3-A86C-EF2315F57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498600" y="93240"/>
            <a:ext cx="8146800" cy="67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864400-F8DA-4EE3-9F40-9C821F031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98600" y="176220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3160" y="1762200"/>
            <a:ext cx="3975480" cy="43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98600" y="404172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954129-D4EE-4B06-89EF-3E9394954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98600" y="1762200"/>
            <a:ext cx="3975480" cy="43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3160" y="176220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3160" y="404172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5DAA03-1B6D-4201-943B-4A1139986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98600" y="176220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3160" y="176220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98600" y="4041720"/>
            <a:ext cx="814680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1FD85E-ACA8-4BD1-95D0-0B8B017CD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98600" y="1762200"/>
            <a:ext cx="814680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98600" y="4041720"/>
            <a:ext cx="814680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7FCE98-0C73-4EB0-B22F-200C6B744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98600" y="176220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176220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98600" y="404172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3160" y="404172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2EF532-8DEC-40F8-BB3A-7C2DB69E7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8600" y="93240"/>
            <a:ext cx="8146800" cy="67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23424-3496-438F-9A84-16ED13CBB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98600" y="1762200"/>
            <a:ext cx="262296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252960" y="1762200"/>
            <a:ext cx="262296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07680" y="1762200"/>
            <a:ext cx="262296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98600" y="4041720"/>
            <a:ext cx="262296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252960" y="4041720"/>
            <a:ext cx="262296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07680" y="4041720"/>
            <a:ext cx="262296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650DFB-5B02-41FF-9DC2-2B59AAC4F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148E4F-5079-4403-8EF1-2B71F326A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498600" y="1762200"/>
            <a:ext cx="8146800" cy="436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101A6F-1D1C-4456-A6F0-36A283FAB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98600" y="1762200"/>
            <a:ext cx="8146800" cy="43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4BDA04-51C8-4E75-AF7E-D694EC298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98600" y="1762200"/>
            <a:ext cx="3975480" cy="43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3160" y="1762200"/>
            <a:ext cx="3975480" cy="43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0D96A2-13F5-447F-A1F8-117B193C3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D31D34-BDF2-49A7-9EEF-450081E70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498600" y="93240"/>
            <a:ext cx="8146800" cy="67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72696C-8563-44F5-8F9D-D2A05E3D5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98600" y="176220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3160" y="1762200"/>
            <a:ext cx="3975480" cy="43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98600" y="404172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D33528-14AE-490E-B73B-CA52BDAE7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98600" y="1762200"/>
            <a:ext cx="3975480" cy="43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3160" y="176220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673160" y="404172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552896-ABF7-4695-BB1F-67FF52113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98600" y="176220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3160" y="176220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98600" y="4041720"/>
            <a:ext cx="814680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9CFEA5-B8B0-4520-8FF9-E18BDD293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8600" y="176220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1762200"/>
            <a:ext cx="3975480" cy="43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8600" y="404172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46E33-20CD-4E2B-8F48-211A04C87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98600" y="1762200"/>
            <a:ext cx="814680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98600" y="4041720"/>
            <a:ext cx="814680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3EA5F3-F2F8-4646-868F-50D3BEEDD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98600" y="176220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3160" y="176220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98600" y="404172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673160" y="404172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97F68E-F3C0-41AB-B127-53CEC88A9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98600" y="1762200"/>
            <a:ext cx="262296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252960" y="1762200"/>
            <a:ext cx="262296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007680" y="1762200"/>
            <a:ext cx="262296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98600" y="4041720"/>
            <a:ext cx="262296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3252960" y="4041720"/>
            <a:ext cx="262296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6007680" y="4041720"/>
            <a:ext cx="262296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D64355-D004-4363-B7D3-728E20F64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8600" y="1762200"/>
            <a:ext cx="3975480" cy="43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176220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404172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302FE-B6EA-4139-AAC3-43C623247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8600" y="176220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176220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8600" y="4041720"/>
            <a:ext cx="814680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C558C-235B-4162-86A6-76C020857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302c24"/>
                </a:solidFill>
                <a:latin typeface="Book Antiqua"/>
              </a:rPr>
              <a:t>Click to edit the title text format</a:t>
            </a: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8600" y="1762200"/>
            <a:ext cx="8146800" cy="43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Click to edit the outline text format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lvl="1" marL="914400" indent="-457200">
              <a:spcBef>
                <a:spcPts val="2001"/>
              </a:spcBef>
              <a:buClr>
                <a:srgbClr val="a49a85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Second Outline Level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lvl="2" marL="13716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Third Outline Level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lvl="3" marL="1828800" indent="-457200">
              <a:spcBef>
                <a:spcPts val="2001"/>
              </a:spcBef>
              <a:buClr>
                <a:srgbClr val="a49a85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Fourth Outline Level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lvl="4" marL="22860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Fifth Outline Level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lvl="5" marL="2286000" indent="-457200">
              <a:spcBef>
                <a:spcPts val="2001"/>
              </a:spcBef>
              <a:buClr>
                <a:srgbClr val="302c24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Sixth Outline Level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lvl="6" marL="2286000" indent="-457200">
              <a:spcBef>
                <a:spcPts val="2001"/>
              </a:spcBef>
              <a:buClr>
                <a:srgbClr val="302c24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Seventh Outline Level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900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6d6452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000BC86-D289-419C-8C2D-6A036527F470}" type="datetime">
              <a:rPr b="0" lang="en-US" sz="1100" spc="-1" strike="noStrike">
                <a:solidFill>
                  <a:srgbClr val="6d6452"/>
                </a:solidFill>
                <a:latin typeface="Book Antiqua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02c24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1840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6d6452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C7F1DFD-9FB9-4662-8BF1-1E9F4A38F076}" type="slidenum">
              <a:rPr b="0" lang="en-US" sz="1100" spc="-1" strike="noStrike">
                <a:solidFill>
                  <a:srgbClr val="6d6452"/>
                </a:solidFill>
                <a:latin typeface="Book Antiqu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Book Antiqua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98600" y="1762200"/>
            <a:ext cx="8146800" cy="43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Click to edit the outline text format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lvl="1" marL="914400" indent="-457200">
              <a:spcBef>
                <a:spcPts val="2001"/>
              </a:spcBef>
              <a:buClr>
                <a:srgbClr val="a49a85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Second Outline Level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lvl="2" marL="13716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Third Outline Level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lvl="3" marL="1828800" indent="-457200">
              <a:spcBef>
                <a:spcPts val="2001"/>
              </a:spcBef>
              <a:buClr>
                <a:srgbClr val="a49a85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Fourth Outline Level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lvl="4" marL="22860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Fifth Outline Level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lvl="5" marL="2286000" indent="-457200">
              <a:spcBef>
                <a:spcPts val="2001"/>
              </a:spcBef>
              <a:buClr>
                <a:srgbClr val="ffffff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Sixth Outline Level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lvl="6" marL="2286000" indent="-457200">
              <a:spcBef>
                <a:spcPts val="2001"/>
              </a:spcBef>
              <a:buClr>
                <a:srgbClr val="ffffff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Seventh Outline Level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18900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6d6452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B9B85E-8AFB-49EC-BFAE-1051ECD02B27}" type="datetime">
              <a:rPr b="0" lang="en-US" sz="1100" spc="-1" strike="noStrike">
                <a:solidFill>
                  <a:srgbClr val="6d6452"/>
                </a:solidFill>
                <a:latin typeface="Book Antiqua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02c24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81840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6d6452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336E3C-292B-43CF-826E-C78BBBB7C924}" type="slidenum">
              <a:rPr b="0" lang="en-US" sz="1100" spc="-1" strike="noStrike">
                <a:solidFill>
                  <a:srgbClr val="6d6452"/>
                </a:solidFill>
                <a:latin typeface="Book Antiqu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Book Antiqua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98600" y="1762200"/>
            <a:ext cx="8146800" cy="43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Click to edit the outline text format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lvl="1" marL="914400" indent="-457200">
              <a:spcBef>
                <a:spcPts val="2001"/>
              </a:spcBef>
              <a:buClr>
                <a:srgbClr val="a49a85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Second Outline Level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lvl="2" marL="13716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Third Outline Level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lvl="3" marL="1828800" indent="-457200">
              <a:spcBef>
                <a:spcPts val="2001"/>
              </a:spcBef>
              <a:buClr>
                <a:srgbClr val="a49a85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Fourth Outline Level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lvl="4" marL="22860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Fifth Outline Level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lvl="5" marL="2286000" indent="-457200">
              <a:spcBef>
                <a:spcPts val="2001"/>
              </a:spcBef>
              <a:buClr>
                <a:srgbClr val="ffffff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Sixth Outline Level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lvl="6" marL="2286000" indent="-457200">
              <a:spcBef>
                <a:spcPts val="2001"/>
              </a:spcBef>
              <a:buClr>
                <a:srgbClr val="ffffff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Seventh Outline Level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18900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6d6452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4E47BFC-74D2-4C53-A267-0444705DDA5B}" type="datetime">
              <a:rPr b="0" lang="en-US" sz="1100" spc="-1" strike="noStrike">
                <a:solidFill>
                  <a:srgbClr val="6d6452"/>
                </a:solidFill>
                <a:latin typeface="Book Antiqua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02c24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81840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6d6452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8ABA9E-47F7-4351-9F67-0D3B3C9B48C1}" type="slidenum">
              <a:rPr b="0" lang="en-US" sz="1100" spc="-1" strike="noStrike">
                <a:solidFill>
                  <a:srgbClr val="6d6452"/>
                </a:solidFill>
                <a:latin typeface="Book Antiqu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302c24"/>
                </a:solidFill>
                <a:latin typeface="Book Antiqua"/>
              </a:rPr>
              <a:t>Click to edit the title text format</a:t>
            </a: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98600" y="1762200"/>
            <a:ext cx="8146800" cy="43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Click to edit the outline text format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lvl="1" marL="914400" indent="-457200">
              <a:spcBef>
                <a:spcPts val="2001"/>
              </a:spcBef>
              <a:buClr>
                <a:srgbClr val="a49a85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Second Outline Level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lvl="2" marL="13716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Third Outline Level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lvl="3" marL="1828800" indent="-457200">
              <a:spcBef>
                <a:spcPts val="2001"/>
              </a:spcBef>
              <a:buClr>
                <a:srgbClr val="a49a85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Fourth Outline Level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lvl="4" marL="22860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Fifth Outline Level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lvl="5" marL="2286000" indent="-457200">
              <a:spcBef>
                <a:spcPts val="2001"/>
              </a:spcBef>
              <a:buClr>
                <a:srgbClr val="302c24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Sixth Outline Level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lvl="6" marL="2286000" indent="-457200">
              <a:spcBef>
                <a:spcPts val="2001"/>
              </a:spcBef>
              <a:buClr>
                <a:srgbClr val="302c24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Seventh Outline Level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18900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6d6452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C92E24A-8B75-4F41-B806-DD9CF233147D}" type="datetime">
              <a:rPr b="0" lang="en-US" sz="1100" spc="-1" strike="noStrike">
                <a:solidFill>
                  <a:srgbClr val="6d6452"/>
                </a:solidFill>
                <a:latin typeface="Book Antiqua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02c24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81840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6d6452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F3972B-1A80-4F9D-A5E4-0DD9D2C1F43F}" type="slidenum">
              <a:rPr b="0" lang="en-US" sz="1100" spc="-1" strike="noStrike">
                <a:solidFill>
                  <a:srgbClr val="6d6452"/>
                </a:solidFill>
                <a:latin typeface="Book Antiqu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Straight Connector 6"/>
          <p:cNvSpPr/>
          <p:nvPr/>
        </p:nvSpPr>
        <p:spPr>
          <a:xfrm>
            <a:off x="503280" y="2352600"/>
            <a:ext cx="3840120" cy="1800"/>
          </a:xfrm>
          <a:prstGeom prst="line">
            <a:avLst/>
          </a:prstGeom>
          <a:ln w="6480">
            <a:solidFill>
              <a:srgbClr val="c6b1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302c24"/>
              </a:solidFill>
              <a:latin typeface="Arial"/>
            </a:endParaRPr>
          </a:p>
        </p:txBody>
      </p:sp>
      <p:sp>
        <p:nvSpPr>
          <p:cNvPr id="165" name="Straight Connector 7"/>
          <p:cNvSpPr/>
          <p:nvPr/>
        </p:nvSpPr>
        <p:spPr>
          <a:xfrm>
            <a:off x="4805280" y="2352600"/>
            <a:ext cx="3840120" cy="1800"/>
          </a:xfrm>
          <a:prstGeom prst="line">
            <a:avLst/>
          </a:prstGeom>
          <a:ln w="6480">
            <a:solidFill>
              <a:srgbClr val="c6b1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302c24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302c24"/>
                </a:solidFill>
                <a:latin typeface="Book Antiqua"/>
              </a:rPr>
              <a:t>Click to edit the title text format</a:t>
            </a: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98600" y="1762200"/>
            <a:ext cx="8146800" cy="43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Click to edit the outline text format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lvl="1" marL="914400" indent="-457200">
              <a:spcBef>
                <a:spcPts val="2001"/>
              </a:spcBef>
              <a:buClr>
                <a:srgbClr val="a49a85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Second Outline Level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lvl="2" marL="13716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Third Outline Level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lvl="3" marL="1828800" indent="-457200">
              <a:spcBef>
                <a:spcPts val="2001"/>
              </a:spcBef>
              <a:buClr>
                <a:srgbClr val="a49a85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Fourth Outline Level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lvl="4" marL="22860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Fifth Outline Level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lvl="5" marL="2286000" indent="-457200">
              <a:spcBef>
                <a:spcPts val="2001"/>
              </a:spcBef>
              <a:buClr>
                <a:srgbClr val="302c24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Sixth Outline Level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lvl="6" marL="2286000" indent="-457200">
              <a:spcBef>
                <a:spcPts val="2001"/>
              </a:spcBef>
              <a:buClr>
                <a:srgbClr val="302c24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Seventh Outline Level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dt" idx="13"/>
          </p:nvPr>
        </p:nvSpPr>
        <p:spPr>
          <a:xfrm>
            <a:off x="18900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6d6452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186933-90F6-4935-9E32-E70AFDEBD693}" type="datetime">
              <a:rPr b="0" lang="en-US" sz="1100" spc="-1" strike="noStrike">
                <a:solidFill>
                  <a:srgbClr val="6d6452"/>
                </a:solidFill>
                <a:latin typeface="Book Antiqua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02c24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sldNum" idx="15"/>
          </p:nvPr>
        </p:nvSpPr>
        <p:spPr>
          <a:xfrm>
            <a:off x="681840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6d6452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F4545C-3711-48A6-AF30-4D87E5AFEB56}" type="slidenum">
              <a:rPr b="0" lang="en-US" sz="1100" spc="-1" strike="noStrike">
                <a:solidFill>
                  <a:srgbClr val="6d6452"/>
                </a:solidFill>
                <a:latin typeface="Book Antiqu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Book Antiqua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98600" y="1762200"/>
            <a:ext cx="8146800" cy="43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Click to edit the outline text format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lvl="1" marL="914400" indent="-457200">
              <a:spcBef>
                <a:spcPts val="2001"/>
              </a:spcBef>
              <a:buClr>
                <a:srgbClr val="a49a85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Second Outline Level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lvl="2" marL="13716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Third Outline Level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lvl="3" marL="1828800" indent="-457200">
              <a:spcBef>
                <a:spcPts val="2001"/>
              </a:spcBef>
              <a:buClr>
                <a:srgbClr val="a49a85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Fourth Outline Level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lvl="4" marL="22860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Fifth Outline Level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lvl="5" marL="2286000" indent="-457200">
              <a:spcBef>
                <a:spcPts val="2001"/>
              </a:spcBef>
              <a:buClr>
                <a:srgbClr val="ffffff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Sixth Outline Level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lvl="6" marL="2286000" indent="-457200">
              <a:spcBef>
                <a:spcPts val="2001"/>
              </a:spcBef>
              <a:buClr>
                <a:srgbClr val="ffffff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Seventh Outline Level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dt" idx="16"/>
          </p:nvPr>
        </p:nvSpPr>
        <p:spPr>
          <a:xfrm>
            <a:off x="18900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6d6452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B2255C-4FAC-44A4-B80C-7C688A815F26}" type="datetime">
              <a:rPr b="0" lang="en-US" sz="1100" spc="-1" strike="noStrike">
                <a:solidFill>
                  <a:srgbClr val="6d6452"/>
                </a:solidFill>
                <a:latin typeface="Book Antiqua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02c24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 type="sldNum" idx="18"/>
          </p:nvPr>
        </p:nvSpPr>
        <p:spPr>
          <a:xfrm>
            <a:off x="681840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6d6452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975100-7C06-4897-89AD-5AC15607AFE1}" type="slidenum">
              <a:rPr b="0" lang="en-US" sz="1100" spc="-1" strike="noStrike">
                <a:solidFill>
                  <a:srgbClr val="6d6452"/>
                </a:solidFill>
                <a:latin typeface="Book Antiqu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3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4.png"/><Relationship Id="rId3" Type="http://schemas.openxmlformats.org/officeDocument/2006/relationships/image" Target="../media/image25.png"/><Relationship Id="rId4" Type="http://schemas.openxmlformats.org/officeDocument/2006/relationships/image" Target="../media/image45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6.png"/><Relationship Id="rId3" Type="http://schemas.openxmlformats.org/officeDocument/2006/relationships/image" Target="../media/image47.png"/><Relationship Id="rId4" Type="http://schemas.openxmlformats.org/officeDocument/2006/relationships/image" Target="../media/image48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" Target="slide4.xml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" Target="slide5.xml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slide" Target="slide6.xml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slide" Target="slide7.xml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slide" Target="slide17.xml"/><Relationship Id="rId17" Type="http://schemas.openxmlformats.org/officeDocument/2006/relationships/image" Target="../media/image15.png"/><Relationship Id="rId18" Type="http://schemas.openxmlformats.org/officeDocument/2006/relationships/image" Target="../media/image16.png"/><Relationship Id="rId19" Type="http://schemas.openxmlformats.org/officeDocument/2006/relationships/slide" Target="slide8.xml"/><Relationship Id="rId20" Type="http://schemas.openxmlformats.org/officeDocument/2006/relationships/image" Target="../media/image17.png"/><Relationship Id="rId21" Type="http://schemas.openxmlformats.org/officeDocument/2006/relationships/image" Target="../media/image18.png"/><Relationship Id="rId22" Type="http://schemas.openxmlformats.org/officeDocument/2006/relationships/slide" Target="slide19.xml"/><Relationship Id="rId23" Type="http://schemas.openxmlformats.org/officeDocument/2006/relationships/image" Target="../media/image19.png"/><Relationship Id="rId24" Type="http://schemas.openxmlformats.org/officeDocument/2006/relationships/image" Target="../media/image20.png"/><Relationship Id="rId25" Type="http://schemas.openxmlformats.org/officeDocument/2006/relationships/slide" Target="slide21.xml"/><Relationship Id="rId26" Type="http://schemas.openxmlformats.org/officeDocument/2006/relationships/image" Target="../media/image21.png"/><Relationship Id="rId27" Type="http://schemas.openxmlformats.org/officeDocument/2006/relationships/image" Target="../media/image22.png"/><Relationship Id="rId28" Type="http://schemas.openxmlformats.org/officeDocument/2006/relationships/slide" Target="slide22.xml"/><Relationship Id="rId29" Type="http://schemas.openxmlformats.org/officeDocument/2006/relationships/image" Target="../media/image23.png"/><Relationship Id="rId30" Type="http://schemas.openxmlformats.org/officeDocument/2006/relationships/slide" Target="slide3.xml"/><Relationship Id="rId31" Type="http://schemas.openxmlformats.org/officeDocument/2006/relationships/image" Target="../media/image24.png"/><Relationship Id="rId3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9.png"/><Relationship Id="rId3" Type="http://schemas.openxmlformats.org/officeDocument/2006/relationships/image" Target="../media/image50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1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image" Target="../media/image31.png"/><Relationship Id="rId8" Type="http://schemas.openxmlformats.org/officeDocument/2006/relationships/image" Target="../media/image32.png"/><Relationship Id="rId9" Type="http://schemas.openxmlformats.org/officeDocument/2006/relationships/image" Target="../media/image33.png"/><Relationship Id="rId10" Type="http://schemas.openxmlformats.org/officeDocument/2006/relationships/slide" Target="slide9.xml"/><Relationship Id="rId11" Type="http://schemas.openxmlformats.org/officeDocument/2006/relationships/image" Target="../media/image34.png"/><Relationship Id="rId12" Type="http://schemas.openxmlformats.org/officeDocument/2006/relationships/slide" Target="slide10.xml"/><Relationship Id="rId13" Type="http://schemas.openxmlformats.org/officeDocument/2006/relationships/image" Target="../media/image35.png"/><Relationship Id="rId14" Type="http://schemas.openxmlformats.org/officeDocument/2006/relationships/slide" Target="slide11.xml"/><Relationship Id="rId15" Type="http://schemas.openxmlformats.org/officeDocument/2006/relationships/image" Target="../media/image36.png"/><Relationship Id="rId16" Type="http://schemas.openxmlformats.org/officeDocument/2006/relationships/slide" Target="slide12.xml"/><Relationship Id="rId17" Type="http://schemas.openxmlformats.org/officeDocument/2006/relationships/image" Target="../media/image37.png"/><Relationship Id="rId18" Type="http://schemas.openxmlformats.org/officeDocument/2006/relationships/slide" Target="slide13.xml"/><Relationship Id="rId19" Type="http://schemas.openxmlformats.org/officeDocument/2006/relationships/image" Target="../media/image38.png"/><Relationship Id="rId20" Type="http://schemas.openxmlformats.org/officeDocument/2006/relationships/slide" Target="slide14.xml"/><Relationship Id="rId21" Type="http://schemas.openxmlformats.org/officeDocument/2006/relationships/image" Target="../media/image39.png"/><Relationship Id="rId22" Type="http://schemas.openxmlformats.org/officeDocument/2006/relationships/slide" Target="slide15.xml"/><Relationship Id="rId23" Type="http://schemas.openxmlformats.org/officeDocument/2006/relationships/image" Target="../media/image40.png"/><Relationship Id="rId24" Type="http://schemas.openxmlformats.org/officeDocument/2006/relationships/slide" Target="slide16.xml"/><Relationship Id="rId25" Type="http://schemas.openxmlformats.org/officeDocument/2006/relationships/image" Target="../media/image41.png"/><Relationship Id="rId26" Type="http://schemas.openxmlformats.org/officeDocument/2006/relationships/slide" Target=""/><Relationship Id="rId27" Type="http://schemas.openxmlformats.org/officeDocument/2006/relationships/image" Target="../media/image42.png"/><Relationship Id="rId2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Title 1" descr=""/>
          <p:cNvPicPr/>
          <p:nvPr/>
        </p:nvPicPr>
        <p:blipFill>
          <a:blip r:embed="rId2"/>
          <a:stretch/>
        </p:blipFill>
        <p:spPr>
          <a:xfrm>
            <a:off x="493560" y="1365120"/>
            <a:ext cx="8156880" cy="1560600"/>
          </a:xfrm>
          <a:prstGeom prst="rect">
            <a:avLst/>
          </a:prstGeom>
          <a:ln w="0">
            <a:noFill/>
          </a:ln>
        </p:spPr>
      </p:pic>
      <p:pic>
        <p:nvPicPr>
          <p:cNvPr id="249" name="Subtitle 2" descr=""/>
          <p:cNvPicPr/>
          <p:nvPr/>
        </p:nvPicPr>
        <p:blipFill>
          <a:blip r:embed="rId3"/>
          <a:stretch/>
        </p:blipFill>
        <p:spPr>
          <a:xfrm>
            <a:off x="493560" y="2706840"/>
            <a:ext cx="8156880" cy="68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800000"/>
                </a:solidFill>
                <a:latin typeface="Book Antiqua"/>
              </a:rPr>
              <a:t>2) Eight Fold Path</a:t>
            </a: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498600" y="1762200"/>
            <a:ext cx="8146800" cy="436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ff"/>
                </a:solidFill>
                <a:latin typeface="Book Antiqua"/>
              </a:rPr>
              <a:t>RIGHT PURPOSE</a:t>
            </a:r>
            <a:endParaRPr b="0" lang="en-US" sz="36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d6452"/>
              </a:solidFill>
              <a:latin typeface="Book Antiqua"/>
            </a:endParaRPr>
          </a:p>
        </p:txBody>
      </p:sp>
      <p:pic>
        <p:nvPicPr>
          <p:cNvPr id="310" name="Action Button: Home 3" descr=""/>
          <p:cNvPicPr/>
          <p:nvPr/>
        </p:nvPicPr>
        <p:blipFill>
          <a:blip r:embed="rId2"/>
          <a:stretch/>
        </p:blipFill>
        <p:spPr>
          <a:xfrm>
            <a:off x="7497720" y="5321160"/>
            <a:ext cx="865080" cy="8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800000"/>
                </a:solidFill>
                <a:latin typeface="Book Antiqua"/>
              </a:rPr>
              <a:t>3) Eight Fold Path</a:t>
            </a: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498600" y="1762200"/>
            <a:ext cx="8146800" cy="436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ff"/>
                </a:solidFill>
                <a:latin typeface="Book Antiqua"/>
              </a:rPr>
              <a:t>RIGHT SPEECH</a:t>
            </a:r>
            <a:endParaRPr b="0" lang="en-US" sz="36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d6452"/>
              </a:solidFill>
              <a:latin typeface="Book Antiqua"/>
            </a:endParaRPr>
          </a:p>
        </p:txBody>
      </p:sp>
      <p:pic>
        <p:nvPicPr>
          <p:cNvPr id="313" name="Action Button: Home 3" descr=""/>
          <p:cNvPicPr/>
          <p:nvPr/>
        </p:nvPicPr>
        <p:blipFill>
          <a:blip r:embed="rId2"/>
          <a:stretch/>
        </p:blipFill>
        <p:spPr>
          <a:xfrm>
            <a:off x="7497720" y="5321160"/>
            <a:ext cx="865080" cy="8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800000"/>
                </a:solidFill>
                <a:latin typeface="Book Antiqua"/>
              </a:rPr>
              <a:t>4) Eight Fold Path</a:t>
            </a: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498600" y="1762200"/>
            <a:ext cx="8146800" cy="436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ff"/>
                </a:solidFill>
                <a:latin typeface="Book Antiqua"/>
              </a:rPr>
              <a:t>RIGHT ACTION</a:t>
            </a:r>
            <a:endParaRPr b="0" lang="en-US" sz="36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d6452"/>
              </a:solidFill>
              <a:latin typeface="Book Antiqua"/>
            </a:endParaRPr>
          </a:p>
        </p:txBody>
      </p:sp>
      <p:pic>
        <p:nvPicPr>
          <p:cNvPr id="316" name="Action Button: Home 3" descr=""/>
          <p:cNvPicPr/>
          <p:nvPr/>
        </p:nvPicPr>
        <p:blipFill>
          <a:blip r:embed="rId2"/>
          <a:stretch/>
        </p:blipFill>
        <p:spPr>
          <a:xfrm>
            <a:off x="7497720" y="5321160"/>
            <a:ext cx="865080" cy="8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800000"/>
                </a:solidFill>
                <a:latin typeface="Book Antiqua"/>
              </a:rPr>
              <a:t>5) Eight Fold Path</a:t>
            </a: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498600" y="1762200"/>
            <a:ext cx="8146800" cy="436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ff"/>
                </a:solidFill>
                <a:latin typeface="Book Antiqua"/>
              </a:rPr>
              <a:t>RIGHT LIVING</a:t>
            </a:r>
            <a:endParaRPr b="0" lang="en-US" sz="36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d6452"/>
              </a:solidFill>
              <a:latin typeface="Book Antiqua"/>
            </a:endParaRPr>
          </a:p>
        </p:txBody>
      </p:sp>
      <p:pic>
        <p:nvPicPr>
          <p:cNvPr id="319" name="Action Button: Home 3" descr=""/>
          <p:cNvPicPr/>
          <p:nvPr/>
        </p:nvPicPr>
        <p:blipFill>
          <a:blip r:embed="rId2"/>
          <a:stretch/>
        </p:blipFill>
        <p:spPr>
          <a:xfrm>
            <a:off x="7497720" y="5321160"/>
            <a:ext cx="865080" cy="89064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4" descr=""/>
          <p:cNvPicPr/>
          <p:nvPr/>
        </p:nvPicPr>
        <p:blipFill>
          <a:blip r:embed="rId3"/>
          <a:stretch/>
        </p:blipFill>
        <p:spPr>
          <a:xfrm>
            <a:off x="5500800" y="1332000"/>
            <a:ext cx="106668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000"/>
            </a:br>
            <a:r>
              <a:rPr b="0" lang="en-US" sz="5000" spc="-1" strike="noStrike">
                <a:solidFill>
                  <a:srgbClr val="800000"/>
                </a:solidFill>
                <a:latin typeface="Book Antiqua"/>
              </a:rPr>
              <a:t>6) Eight Fold Path</a:t>
            </a: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498600" y="1762200"/>
            <a:ext cx="8146800" cy="436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ff"/>
                </a:solidFill>
                <a:latin typeface="Book Antiqua"/>
              </a:rPr>
              <a:t>RIGHT EFFORT</a:t>
            </a:r>
            <a:endParaRPr b="0" lang="en-US" sz="36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d6452"/>
              </a:solidFill>
              <a:latin typeface="Book Antiqua"/>
            </a:endParaRPr>
          </a:p>
        </p:txBody>
      </p:sp>
      <p:pic>
        <p:nvPicPr>
          <p:cNvPr id="323" name="Action Button: Home 3" descr=""/>
          <p:cNvPicPr/>
          <p:nvPr/>
        </p:nvPicPr>
        <p:blipFill>
          <a:blip r:embed="rId2"/>
          <a:stretch/>
        </p:blipFill>
        <p:spPr>
          <a:xfrm>
            <a:off x="7497720" y="5321160"/>
            <a:ext cx="865080" cy="8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800000"/>
                </a:solidFill>
                <a:latin typeface="Book Antiqua"/>
              </a:rPr>
              <a:t>7) Eight Fold Path</a:t>
            </a: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498600" y="1762200"/>
            <a:ext cx="8146800" cy="436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ff"/>
                </a:solidFill>
                <a:latin typeface="Book Antiqua"/>
              </a:rPr>
              <a:t>RIGHT THINKING</a:t>
            </a:r>
            <a:endParaRPr b="0" lang="en-US" sz="36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d6452"/>
              </a:solidFill>
              <a:latin typeface="Book Antiqua"/>
            </a:endParaRPr>
          </a:p>
        </p:txBody>
      </p:sp>
      <p:pic>
        <p:nvPicPr>
          <p:cNvPr id="326" name="Action Button: Home 3" descr=""/>
          <p:cNvPicPr/>
          <p:nvPr/>
        </p:nvPicPr>
        <p:blipFill>
          <a:blip r:embed="rId2"/>
          <a:stretch/>
        </p:blipFill>
        <p:spPr>
          <a:xfrm>
            <a:off x="7497720" y="5321160"/>
            <a:ext cx="865080" cy="8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800000"/>
                </a:solidFill>
                <a:latin typeface="Book Antiqua"/>
              </a:rPr>
              <a:t>8) Eight Fold Path</a:t>
            </a: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498600" y="1762200"/>
            <a:ext cx="8146800" cy="436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ff"/>
                </a:solidFill>
                <a:latin typeface="Book Antiqua"/>
              </a:rPr>
              <a:t>RIGHT MEDITATION</a:t>
            </a:r>
            <a:endParaRPr b="0" lang="en-US" sz="3600" spc="-1" strike="noStrike">
              <a:solidFill>
                <a:srgbClr val="6d6452"/>
              </a:solidFill>
              <a:latin typeface="Book Antiqua"/>
            </a:endParaRPr>
          </a:p>
        </p:txBody>
      </p:sp>
      <p:pic>
        <p:nvPicPr>
          <p:cNvPr id="329" name="Action Button: Home 3" descr=""/>
          <p:cNvPicPr/>
          <p:nvPr/>
        </p:nvPicPr>
        <p:blipFill>
          <a:blip r:embed="rId2"/>
          <a:stretch/>
        </p:blipFill>
        <p:spPr>
          <a:xfrm>
            <a:off x="7497720" y="5321160"/>
            <a:ext cx="865080" cy="8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6600"/>
                </a:solidFill>
                <a:latin typeface="Book Antiqua"/>
              </a:rPr>
              <a:t>Buddhism Religion is Where?</a:t>
            </a: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498600" y="1762200"/>
            <a:ext cx="8146800" cy="436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South Asia was the birthplace of Buddhism.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pic>
        <p:nvPicPr>
          <p:cNvPr id="332" name="Picture 3" descr=""/>
          <p:cNvPicPr/>
          <p:nvPr/>
        </p:nvPicPr>
        <p:blipFill>
          <a:blip r:embed="rId2"/>
          <a:stretch/>
        </p:blipFill>
        <p:spPr>
          <a:xfrm>
            <a:off x="2498760" y="3849840"/>
            <a:ext cx="1625400" cy="1574640"/>
          </a:xfrm>
          <a:prstGeom prst="rect">
            <a:avLst/>
          </a:prstGeom>
          <a:ln w="0">
            <a:noFill/>
          </a:ln>
        </p:spPr>
      </p:pic>
      <p:pic>
        <p:nvPicPr>
          <p:cNvPr id="333" name="Action Button: Home 5" descr=""/>
          <p:cNvPicPr/>
          <p:nvPr/>
        </p:nvPicPr>
        <p:blipFill>
          <a:blip r:embed="rId3"/>
          <a:stretch/>
        </p:blipFill>
        <p:spPr>
          <a:xfrm>
            <a:off x="7516800" y="5327640"/>
            <a:ext cx="907920" cy="969840"/>
          </a:xfrm>
          <a:prstGeom prst="rect">
            <a:avLst/>
          </a:prstGeom>
          <a:ln w="0">
            <a:noFill/>
          </a:ln>
        </p:spPr>
      </p:pic>
      <p:pic>
        <p:nvPicPr>
          <p:cNvPr id="334" name="Action Button: Custom 6" descr=""/>
          <p:cNvPicPr/>
          <p:nvPr/>
        </p:nvPicPr>
        <p:blipFill>
          <a:blip r:embed="rId4"/>
          <a:stretch/>
        </p:blipFill>
        <p:spPr>
          <a:xfrm>
            <a:off x="2432160" y="3803760"/>
            <a:ext cx="1755720" cy="170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98600" y="309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6600"/>
                </a:solidFill>
                <a:latin typeface="Book Antiqua"/>
              </a:rPr>
              <a:t>Buddhism Religion Spread Across Asia</a:t>
            </a: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498600" y="1899720"/>
            <a:ext cx="8146800" cy="42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Throughout the years, Buddhism spread across Asia and Buddhism wasn’t just a religion practiced in South Asia.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pic>
        <p:nvPicPr>
          <p:cNvPr id="337" name="Action Button: Home 3" descr=""/>
          <p:cNvPicPr/>
          <p:nvPr/>
        </p:nvPicPr>
        <p:blipFill>
          <a:blip r:embed="rId2"/>
          <a:stretch/>
        </p:blipFill>
        <p:spPr>
          <a:xfrm>
            <a:off x="7516800" y="5327640"/>
            <a:ext cx="907920" cy="96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89e4d"/>
                </a:solidFill>
                <a:latin typeface="Book Antiqua"/>
              </a:rPr>
              <a:t>What Did Buddhism Bring To Asia? </a:t>
            </a: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498600" y="1762200"/>
            <a:ext cx="8146800" cy="436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Buddhism brought the ideas of the “Fourth Noble Truths”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pic>
        <p:nvPicPr>
          <p:cNvPr id="340" name="Picture 4" descr=""/>
          <p:cNvPicPr/>
          <p:nvPr/>
        </p:nvPicPr>
        <p:blipFill>
          <a:blip r:embed="rId2"/>
          <a:stretch/>
        </p:blipFill>
        <p:spPr>
          <a:xfrm>
            <a:off x="6620040" y="4119480"/>
            <a:ext cx="660240" cy="1625760"/>
          </a:xfrm>
          <a:prstGeom prst="rect">
            <a:avLst/>
          </a:prstGeom>
          <a:ln w="0">
            <a:noFill/>
          </a:ln>
        </p:spPr>
      </p:pic>
      <p:pic>
        <p:nvPicPr>
          <p:cNvPr id="341" name="Action Button: Custom 5" descr=""/>
          <p:cNvPicPr/>
          <p:nvPr/>
        </p:nvPicPr>
        <p:blipFill>
          <a:blip r:embed="rId3"/>
          <a:stretch/>
        </p:blipFill>
        <p:spPr>
          <a:xfrm>
            <a:off x="6553080" y="4078440"/>
            <a:ext cx="792360" cy="1755720"/>
          </a:xfrm>
          <a:prstGeom prst="rect">
            <a:avLst/>
          </a:prstGeom>
          <a:ln w="0">
            <a:noFill/>
          </a:ln>
        </p:spPr>
      </p:pic>
      <p:pic>
        <p:nvPicPr>
          <p:cNvPr id="342" name="Action Button: Home 6" descr=""/>
          <p:cNvPicPr/>
          <p:nvPr/>
        </p:nvPicPr>
        <p:blipFill>
          <a:blip r:embed="rId4"/>
          <a:stretch/>
        </p:blipFill>
        <p:spPr>
          <a:xfrm>
            <a:off x="7523280" y="5450040"/>
            <a:ext cx="888840" cy="76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3" descr=""/>
          <p:cNvPicPr/>
          <p:nvPr/>
        </p:nvPicPr>
        <p:blipFill>
          <a:blip r:embed="rId2"/>
          <a:stretch/>
        </p:blipFill>
        <p:spPr>
          <a:xfrm>
            <a:off x="7230960" y="1311120"/>
            <a:ext cx="1666800" cy="189396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6" descr=""/>
          <p:cNvPicPr/>
          <p:nvPr/>
        </p:nvPicPr>
        <p:blipFill>
          <a:blip r:embed="rId3"/>
          <a:stretch/>
        </p:blipFill>
        <p:spPr>
          <a:xfrm>
            <a:off x="3513240" y="5268960"/>
            <a:ext cx="1898640" cy="1292040"/>
          </a:xfrm>
          <a:prstGeom prst="rect">
            <a:avLst/>
          </a:prstGeom>
          <a:ln w="0">
            <a:noFill/>
          </a:ln>
        </p:spPr>
      </p:pic>
      <p:pic>
        <p:nvPicPr>
          <p:cNvPr id="252" name="Action Button: Custom 7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3444840" y="5224320"/>
            <a:ext cx="2102040" cy="142560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9" descr=""/>
          <p:cNvPicPr/>
          <p:nvPr/>
        </p:nvPicPr>
        <p:blipFill>
          <a:blip r:embed="rId6"/>
          <a:stretch/>
        </p:blipFill>
        <p:spPr>
          <a:xfrm>
            <a:off x="409680" y="3983040"/>
            <a:ext cx="1230120" cy="2571840"/>
          </a:xfrm>
          <a:prstGeom prst="rect">
            <a:avLst/>
          </a:prstGeom>
          <a:ln w="0">
            <a:noFill/>
          </a:ln>
        </p:spPr>
      </p:pic>
      <p:pic>
        <p:nvPicPr>
          <p:cNvPr id="254" name="Action Button: Custom 10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341280" y="3938760"/>
            <a:ext cx="1359000" cy="271116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13" descr=""/>
          <p:cNvPicPr/>
          <p:nvPr/>
        </p:nvPicPr>
        <p:blipFill>
          <a:blip r:embed="rId9"/>
          <a:stretch/>
        </p:blipFill>
        <p:spPr>
          <a:xfrm>
            <a:off x="6254640" y="4257720"/>
            <a:ext cx="1414440" cy="2023920"/>
          </a:xfrm>
          <a:prstGeom prst="rect">
            <a:avLst/>
          </a:prstGeom>
          <a:ln w="0">
            <a:noFill/>
          </a:ln>
        </p:spPr>
      </p:pic>
      <p:pic>
        <p:nvPicPr>
          <p:cNvPr id="256" name="Action Button: Custom 14" descr="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6188040" y="4211640"/>
            <a:ext cx="1541520" cy="215892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16" descr=""/>
          <p:cNvPicPr/>
          <p:nvPr/>
        </p:nvPicPr>
        <p:blipFill>
          <a:blip r:embed="rId12"/>
          <a:stretch/>
        </p:blipFill>
        <p:spPr>
          <a:xfrm>
            <a:off x="5289480" y="878040"/>
            <a:ext cx="933480" cy="741240"/>
          </a:xfrm>
          <a:prstGeom prst="rect">
            <a:avLst/>
          </a:prstGeom>
          <a:ln w="0">
            <a:noFill/>
          </a:ln>
        </p:spPr>
      </p:pic>
      <p:sp>
        <p:nvSpPr>
          <p:cNvPr id="258" name="TextBox 20"/>
          <p:cNvSpPr/>
          <p:nvPr/>
        </p:nvSpPr>
        <p:spPr>
          <a:xfrm>
            <a:off x="4673520" y="1619280"/>
            <a:ext cx="2237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302c24"/>
                </a:solidFill>
                <a:latin typeface="Book Antiqua"/>
              </a:rPr>
              <a:t>WANTS</a:t>
            </a:r>
            <a:endParaRPr b="0" lang="en-US" sz="4400" spc="-1" strike="noStrike">
              <a:solidFill>
                <a:srgbClr val="302c24"/>
              </a:solidFill>
              <a:latin typeface="Arial"/>
            </a:endParaRPr>
          </a:p>
        </p:txBody>
      </p:sp>
      <p:pic>
        <p:nvPicPr>
          <p:cNvPr id="259" name="Action Button: Custom 22" descr="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4602240" y="762120"/>
            <a:ext cx="2298600" cy="171288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23" descr=""/>
          <p:cNvPicPr/>
          <p:nvPr/>
        </p:nvPicPr>
        <p:blipFill>
          <a:blip r:embed="rId15"/>
          <a:stretch/>
        </p:blipFill>
        <p:spPr>
          <a:xfrm>
            <a:off x="409680" y="217440"/>
            <a:ext cx="1500120" cy="1844640"/>
          </a:xfrm>
          <a:prstGeom prst="rect">
            <a:avLst/>
          </a:prstGeom>
          <a:ln w="0">
            <a:noFill/>
          </a:ln>
        </p:spPr>
      </p:pic>
      <p:pic>
        <p:nvPicPr>
          <p:cNvPr id="261" name="Action Button: Custom 24" descr="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360360" y="176040"/>
            <a:ext cx="1676520" cy="202428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25" descr=""/>
          <p:cNvPicPr/>
          <p:nvPr/>
        </p:nvPicPr>
        <p:blipFill>
          <a:blip r:embed="rId18"/>
          <a:stretch/>
        </p:blipFill>
        <p:spPr>
          <a:xfrm>
            <a:off x="3745080" y="3205080"/>
            <a:ext cx="2011320" cy="1684440"/>
          </a:xfrm>
          <a:prstGeom prst="rect">
            <a:avLst/>
          </a:prstGeom>
          <a:ln w="0">
            <a:noFill/>
          </a:ln>
        </p:spPr>
      </p:pic>
      <p:pic>
        <p:nvPicPr>
          <p:cNvPr id="263" name="Action Button: Custom 26" descr="">
            <a:hlinkClick r:id="rId19" action="ppaction://hlinksldjump"/>
          </p:cNvPr>
          <p:cNvPicPr/>
          <p:nvPr/>
        </p:nvPicPr>
        <p:blipFill>
          <a:blip r:embed="rId20"/>
          <a:stretch/>
        </p:blipFill>
        <p:spPr>
          <a:xfrm>
            <a:off x="3676680" y="3164040"/>
            <a:ext cx="2144520" cy="181584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17" descr=""/>
          <p:cNvPicPr/>
          <p:nvPr/>
        </p:nvPicPr>
        <p:blipFill>
          <a:blip r:embed="rId21"/>
          <a:stretch/>
        </p:blipFill>
        <p:spPr>
          <a:xfrm>
            <a:off x="1887480" y="2583000"/>
            <a:ext cx="1625760" cy="1244520"/>
          </a:xfrm>
          <a:prstGeom prst="rect">
            <a:avLst/>
          </a:prstGeom>
          <a:ln w="0">
            <a:noFill/>
          </a:ln>
        </p:spPr>
      </p:pic>
      <p:pic>
        <p:nvPicPr>
          <p:cNvPr id="265" name="Action Button: Custom 18" descr="">
            <a:hlinkClick r:id="rId22" action="ppaction://hlinksldjump"/>
          </p:cNvPr>
          <p:cNvPicPr/>
          <p:nvPr/>
        </p:nvPicPr>
        <p:blipFill>
          <a:blip r:embed="rId23"/>
          <a:stretch/>
        </p:blipFill>
        <p:spPr>
          <a:xfrm>
            <a:off x="1816200" y="2541600"/>
            <a:ext cx="1762200" cy="137160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19" descr=""/>
          <p:cNvPicPr/>
          <p:nvPr/>
        </p:nvPicPr>
        <p:blipFill>
          <a:blip r:embed="rId24"/>
          <a:stretch/>
        </p:blipFill>
        <p:spPr>
          <a:xfrm>
            <a:off x="2077920" y="4257720"/>
            <a:ext cx="1163880" cy="1868400"/>
          </a:xfrm>
          <a:prstGeom prst="rect">
            <a:avLst/>
          </a:prstGeom>
          <a:ln w="0">
            <a:noFill/>
          </a:ln>
        </p:spPr>
      </p:pic>
      <p:pic>
        <p:nvPicPr>
          <p:cNvPr id="267" name="Action Button: Custom 21" descr="">
            <a:hlinkClick r:id="rId25" action="ppaction://hlinksldjump"/>
          </p:cNvPr>
          <p:cNvPicPr/>
          <p:nvPr/>
        </p:nvPicPr>
        <p:blipFill>
          <a:blip r:embed="rId26"/>
          <a:stretch/>
        </p:blipFill>
        <p:spPr>
          <a:xfrm>
            <a:off x="2011320" y="4211640"/>
            <a:ext cx="1292400" cy="200016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23" descr=""/>
          <p:cNvPicPr/>
          <p:nvPr/>
        </p:nvPicPr>
        <p:blipFill>
          <a:blip r:embed="rId27"/>
          <a:stretch/>
        </p:blipFill>
        <p:spPr>
          <a:xfrm>
            <a:off x="2428920" y="669960"/>
            <a:ext cx="1625400" cy="1282680"/>
          </a:xfrm>
          <a:prstGeom prst="rect">
            <a:avLst/>
          </a:prstGeom>
          <a:ln w="0">
            <a:noFill/>
          </a:ln>
        </p:spPr>
      </p:pic>
      <p:pic>
        <p:nvPicPr>
          <p:cNvPr id="269" name="Action Button: Custom 25" descr="">
            <a:hlinkClick r:id="rId28" action="ppaction://hlinksldjump"/>
          </p:cNvPr>
          <p:cNvPicPr/>
          <p:nvPr/>
        </p:nvPicPr>
        <p:blipFill>
          <a:blip r:embed="rId29"/>
          <a:stretch/>
        </p:blipFill>
        <p:spPr>
          <a:xfrm>
            <a:off x="2359080" y="628560"/>
            <a:ext cx="1755720" cy="1413000"/>
          </a:xfrm>
          <a:prstGeom prst="rect">
            <a:avLst/>
          </a:prstGeom>
          <a:ln w="0">
            <a:noFill/>
          </a:ln>
        </p:spPr>
      </p:pic>
      <p:pic>
        <p:nvPicPr>
          <p:cNvPr id="270" name="Action Button: Custom 23" descr="">
            <a:hlinkClick r:id="rId30" action="ppaction://hlinksldjump"/>
          </p:cNvPr>
          <p:cNvPicPr/>
          <p:nvPr/>
        </p:nvPicPr>
        <p:blipFill>
          <a:blip r:embed="rId31"/>
          <a:stretch/>
        </p:blipFill>
        <p:spPr>
          <a:xfrm>
            <a:off x="7162920" y="1268280"/>
            <a:ext cx="1798560" cy="20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89e4d"/>
                </a:solidFill>
                <a:latin typeface="Book Antiqua"/>
              </a:rPr>
              <a:t>What Did Hinduism Bring To South Asia?</a:t>
            </a: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pic>
        <p:nvPicPr>
          <p:cNvPr id="344" name="Content Placeholder 2" descr=""/>
          <p:cNvPicPr/>
          <p:nvPr/>
        </p:nvPicPr>
        <p:blipFill>
          <a:blip r:embed="rId2"/>
          <a:stretch/>
        </p:blipFill>
        <p:spPr>
          <a:xfrm>
            <a:off x="493560" y="1755720"/>
            <a:ext cx="8156880" cy="4376880"/>
          </a:xfrm>
          <a:prstGeom prst="rect">
            <a:avLst/>
          </a:prstGeom>
          <a:ln w="0">
            <a:noFill/>
          </a:ln>
        </p:spPr>
      </p:pic>
      <p:pic>
        <p:nvPicPr>
          <p:cNvPr id="345" name="Action Button: Home 3" descr=""/>
          <p:cNvPicPr/>
          <p:nvPr/>
        </p:nvPicPr>
        <p:blipFill>
          <a:blip r:embed="rId3"/>
          <a:stretch/>
        </p:blipFill>
        <p:spPr>
          <a:xfrm>
            <a:off x="7523280" y="5376960"/>
            <a:ext cx="895320" cy="96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98600" y="-36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302c24"/>
                </a:solidFill>
                <a:latin typeface="Book Antiqua"/>
              </a:rPr>
              <a:t>Asoka Who?</a:t>
            </a: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498600" y="1762200"/>
            <a:ext cx="8146800" cy="436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Asoka was a Hindu General who was one of the greatest rulers.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He taught all of the beliefs and stressed religious toleration.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pic>
        <p:nvPicPr>
          <p:cNvPr id="348" name="Action Button: Home 3" descr=""/>
          <p:cNvPicPr/>
          <p:nvPr/>
        </p:nvPicPr>
        <p:blipFill>
          <a:blip r:embed="rId2"/>
          <a:stretch/>
        </p:blipFill>
        <p:spPr>
          <a:xfrm>
            <a:off x="6742080" y="5065560"/>
            <a:ext cx="847800" cy="9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302c24"/>
                </a:solidFill>
                <a:latin typeface="Book Antiqua"/>
              </a:rPr>
              <a:t>Buddhism Taking Over</a:t>
            </a: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498600" y="1762200"/>
            <a:ext cx="8146800" cy="436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For a short while, Buddhism temporarily replaced Hinduism and during that time, a lot of of people started practicing Buddhism rather than Hinduism.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pic>
        <p:nvPicPr>
          <p:cNvPr id="351" name="Action Button: Home 3" descr=""/>
          <p:cNvPicPr/>
          <p:nvPr/>
        </p:nvPicPr>
        <p:blipFill>
          <a:blip r:embed="rId2"/>
          <a:stretch/>
        </p:blipFill>
        <p:spPr>
          <a:xfrm>
            <a:off x="7175520" y="5376960"/>
            <a:ext cx="1157400" cy="83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6600"/>
                </a:solidFill>
                <a:latin typeface="Book Antiqua"/>
              </a:rPr>
              <a:t>Buddha</a:t>
            </a:r>
            <a:endParaRPr b="0" lang="en-US" sz="6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60440" y="1828800"/>
            <a:ext cx="7719840" cy="420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d6452"/>
                </a:solidFill>
                <a:latin typeface="Chalkduster"/>
                <a:ea typeface="Chalkduster"/>
              </a:rPr>
              <a:t>The name Buddha means </a:t>
            </a:r>
            <a:r>
              <a:rPr b="0" i="1" lang="en-US" sz="2000" spc="-1" strike="noStrike">
                <a:solidFill>
                  <a:srgbClr val="6d6452"/>
                </a:solidFill>
                <a:latin typeface="Chalkduster"/>
                <a:ea typeface="Chalkduster"/>
              </a:rPr>
              <a:t>“The Enlightened One” Siddhartha Gautama was called Buddha because he knew a lot about how to live a good life.</a:t>
            </a:r>
            <a:endParaRPr b="0" lang="en-US" sz="2000" spc="-1" strike="noStrike">
              <a:solidFill>
                <a:srgbClr val="6d6452"/>
              </a:solidFill>
              <a:latin typeface="Book Antiqua"/>
            </a:endParaRPr>
          </a:p>
        </p:txBody>
      </p:sp>
      <p:pic>
        <p:nvPicPr>
          <p:cNvPr id="273" name="Action Button: Home 6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516800" y="5327640"/>
            <a:ext cx="907920" cy="96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6600"/>
                </a:solidFill>
                <a:latin typeface="Book Antiqua"/>
              </a:rPr>
              <a:t>BUDDHISM Religion Today</a:t>
            </a: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98600" y="1762200"/>
            <a:ext cx="8146800" cy="436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InaiMathi"/>
                <a:ea typeface="InaiMathi"/>
              </a:rPr>
              <a:t>Today, there are still over 300 million people still worship Buddha.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InaiMathi"/>
                <a:ea typeface="InaiMathi"/>
              </a:rPr>
              <a:t>There are many different practices of Buddhism today.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pic>
        <p:nvPicPr>
          <p:cNvPr id="276" name="Action Button: Home 4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516800" y="5327640"/>
            <a:ext cx="907920" cy="96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6600"/>
                </a:solidFill>
                <a:latin typeface="Book Antiqua"/>
              </a:rPr>
              <a:t>First," Four Noble Truth”</a:t>
            </a: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98600" y="1762200"/>
            <a:ext cx="8146800" cy="436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d6452"/>
                </a:solidFill>
                <a:latin typeface="Chalkboard"/>
                <a:ea typeface="Chalkboard"/>
              </a:rPr>
              <a:t>Everything in life is sad or sorrowful. </a:t>
            </a:r>
            <a:endParaRPr b="0" lang="en-US" sz="2400" spc="-1" strike="noStrike">
              <a:solidFill>
                <a:srgbClr val="6d6452"/>
              </a:solidFill>
              <a:latin typeface="Book Antiqua"/>
            </a:endParaRPr>
          </a:p>
        </p:txBody>
      </p:sp>
      <p:pic>
        <p:nvPicPr>
          <p:cNvPr id="279" name="Action Button: Home 4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516800" y="5327640"/>
            <a:ext cx="907920" cy="96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6600"/>
                </a:solidFill>
                <a:latin typeface="Book Antiqua"/>
              </a:rPr>
              <a:t>Second, “Four Noble Truth”</a:t>
            </a: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98600" y="1762200"/>
            <a:ext cx="8146800" cy="436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Apple Casual"/>
                <a:ea typeface="Apple Casual"/>
              </a:rPr>
              <a:t>The cause of sadness, or sorrow, is desire and attachment. People seek joys that lead to suffering. 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pic>
        <p:nvPicPr>
          <p:cNvPr id="282" name="Action Button: Home 4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516800" y="5327640"/>
            <a:ext cx="907920" cy="96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6600"/>
                </a:solidFill>
                <a:latin typeface="Book Antiqua"/>
              </a:rPr>
              <a:t>Third," Four Noble Truth”</a:t>
            </a: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98600" y="1762200"/>
            <a:ext cx="8146800" cy="436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American Typewriter"/>
                <a:ea typeface="American Typewriter"/>
              </a:rPr>
              <a:t>The way to end all pain is to end all wants.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pic>
        <p:nvPicPr>
          <p:cNvPr id="285" name="Action Button: Home 4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516800" y="5327640"/>
            <a:ext cx="907920" cy="96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6600"/>
                </a:solidFill>
                <a:latin typeface="Book Antiqua"/>
              </a:rPr>
              <a:t>Fourth, “Four Noble Truth”</a:t>
            </a: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498600" y="1762200"/>
            <a:ext cx="8146800" cy="436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To stop sorrow you must follow the Eight Fold Path.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pic>
        <p:nvPicPr>
          <p:cNvPr id="288" name="Picture 4" descr=""/>
          <p:cNvPicPr/>
          <p:nvPr/>
        </p:nvPicPr>
        <p:blipFill>
          <a:blip r:embed="rId2"/>
          <a:stretch/>
        </p:blipFill>
        <p:spPr>
          <a:xfrm>
            <a:off x="1400040" y="3468600"/>
            <a:ext cx="411120" cy="138600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5" descr=""/>
          <p:cNvPicPr/>
          <p:nvPr/>
        </p:nvPicPr>
        <p:blipFill>
          <a:blip r:embed="rId3"/>
          <a:stretch/>
        </p:blipFill>
        <p:spPr>
          <a:xfrm>
            <a:off x="2158920" y="3524400"/>
            <a:ext cx="803520" cy="127476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7" descr=""/>
          <p:cNvPicPr/>
          <p:nvPr/>
        </p:nvPicPr>
        <p:blipFill>
          <a:blip r:embed="rId4"/>
          <a:stretch/>
        </p:blipFill>
        <p:spPr>
          <a:xfrm>
            <a:off x="3274920" y="3502080"/>
            <a:ext cx="703440" cy="129708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8" descr=""/>
          <p:cNvPicPr/>
          <p:nvPr/>
        </p:nvPicPr>
        <p:blipFill>
          <a:blip r:embed="rId5"/>
          <a:stretch/>
        </p:blipFill>
        <p:spPr>
          <a:xfrm>
            <a:off x="4202280" y="3468600"/>
            <a:ext cx="804600" cy="140832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9" descr=""/>
          <p:cNvPicPr/>
          <p:nvPr/>
        </p:nvPicPr>
        <p:blipFill>
          <a:blip r:embed="rId6"/>
          <a:stretch/>
        </p:blipFill>
        <p:spPr>
          <a:xfrm>
            <a:off x="5257800" y="3502080"/>
            <a:ext cx="890640" cy="143028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10" descr=""/>
          <p:cNvPicPr/>
          <p:nvPr/>
        </p:nvPicPr>
        <p:blipFill>
          <a:blip r:embed="rId7"/>
          <a:stretch/>
        </p:blipFill>
        <p:spPr>
          <a:xfrm>
            <a:off x="6373800" y="3559320"/>
            <a:ext cx="939960" cy="14014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11" descr=""/>
          <p:cNvPicPr/>
          <p:nvPr/>
        </p:nvPicPr>
        <p:blipFill>
          <a:blip r:embed="rId8"/>
          <a:stretch/>
        </p:blipFill>
        <p:spPr>
          <a:xfrm>
            <a:off x="7601040" y="3502080"/>
            <a:ext cx="1044360" cy="145872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12" descr=""/>
          <p:cNvPicPr/>
          <p:nvPr/>
        </p:nvPicPr>
        <p:blipFill>
          <a:blip r:embed="rId9"/>
          <a:stretch/>
        </p:blipFill>
        <p:spPr>
          <a:xfrm>
            <a:off x="272880" y="3468600"/>
            <a:ext cx="912960" cy="1281240"/>
          </a:xfrm>
          <a:prstGeom prst="rect">
            <a:avLst/>
          </a:prstGeom>
          <a:ln w="0">
            <a:noFill/>
          </a:ln>
        </p:spPr>
      </p:pic>
      <p:pic>
        <p:nvPicPr>
          <p:cNvPr id="296" name="Action Button: Custom 14" descr="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208080" y="3425760"/>
            <a:ext cx="1041120" cy="1463760"/>
          </a:xfrm>
          <a:prstGeom prst="rect">
            <a:avLst/>
          </a:prstGeom>
          <a:ln w="0">
            <a:noFill/>
          </a:ln>
        </p:spPr>
      </p:pic>
      <p:pic>
        <p:nvPicPr>
          <p:cNvPr id="297" name="Action Button: Custom 15" descr="">
            <a:hlinkClick r:id="rId12" action="ppaction://hlinksldjump"/>
          </p:cNvPr>
          <p:cNvPicPr/>
          <p:nvPr/>
        </p:nvPicPr>
        <p:blipFill>
          <a:blip r:embed="rId13"/>
          <a:stretch/>
        </p:blipFill>
        <p:spPr>
          <a:xfrm>
            <a:off x="1328760" y="3425760"/>
            <a:ext cx="542880" cy="1463760"/>
          </a:xfrm>
          <a:prstGeom prst="rect">
            <a:avLst/>
          </a:prstGeom>
          <a:ln w="0">
            <a:noFill/>
          </a:ln>
        </p:spPr>
      </p:pic>
      <p:pic>
        <p:nvPicPr>
          <p:cNvPr id="298" name="Action Button: Custom 16" descr="">
            <a:hlinkClick r:id="rId14" action="ppaction://hlinksldjump"/>
          </p:cNvPr>
          <p:cNvPicPr/>
          <p:nvPr/>
        </p:nvPicPr>
        <p:blipFill>
          <a:blip r:embed="rId15"/>
          <a:stretch/>
        </p:blipFill>
        <p:spPr>
          <a:xfrm>
            <a:off x="2090880" y="3481560"/>
            <a:ext cx="933480" cy="1407960"/>
          </a:xfrm>
          <a:prstGeom prst="rect">
            <a:avLst/>
          </a:prstGeom>
          <a:ln w="0">
            <a:noFill/>
          </a:ln>
        </p:spPr>
      </p:pic>
      <p:pic>
        <p:nvPicPr>
          <p:cNvPr id="299" name="Action Button: Custom 17" descr="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3206880" y="3425760"/>
            <a:ext cx="834840" cy="1463760"/>
          </a:xfrm>
          <a:prstGeom prst="rect">
            <a:avLst/>
          </a:prstGeom>
          <a:ln w="0">
            <a:noFill/>
          </a:ln>
        </p:spPr>
      </p:pic>
      <p:pic>
        <p:nvPicPr>
          <p:cNvPr id="300" name="Action Button: Custom 18" descr="">
            <a:hlinkClick r:id="rId18" action="ppaction://hlinksldjump"/>
          </p:cNvPr>
          <p:cNvPicPr/>
          <p:nvPr/>
        </p:nvPicPr>
        <p:blipFill>
          <a:blip r:embed="rId19"/>
          <a:stretch/>
        </p:blipFill>
        <p:spPr>
          <a:xfrm>
            <a:off x="4133880" y="3425760"/>
            <a:ext cx="938160" cy="1536840"/>
          </a:xfrm>
          <a:prstGeom prst="rect">
            <a:avLst/>
          </a:prstGeom>
          <a:ln w="0">
            <a:noFill/>
          </a:ln>
        </p:spPr>
      </p:pic>
      <p:pic>
        <p:nvPicPr>
          <p:cNvPr id="301" name="Action Button: Custom 19" descr="">
            <a:hlinkClick r:id="rId20" action="ppaction://hlinksldjump"/>
          </p:cNvPr>
          <p:cNvPicPr/>
          <p:nvPr/>
        </p:nvPicPr>
        <p:blipFill>
          <a:blip r:embed="rId21"/>
          <a:stretch/>
        </p:blipFill>
        <p:spPr>
          <a:xfrm>
            <a:off x="5187960" y="3481560"/>
            <a:ext cx="1023840" cy="1541160"/>
          </a:xfrm>
          <a:prstGeom prst="rect">
            <a:avLst/>
          </a:prstGeom>
          <a:ln w="0">
            <a:noFill/>
          </a:ln>
        </p:spPr>
      </p:pic>
      <p:pic>
        <p:nvPicPr>
          <p:cNvPr id="302" name="Action Button: Custom 20" descr="">
            <a:hlinkClick r:id="rId22" action="ppaction://hlinksldjump"/>
          </p:cNvPr>
          <p:cNvPicPr/>
          <p:nvPr/>
        </p:nvPicPr>
        <p:blipFill>
          <a:blip r:embed="rId23"/>
          <a:stretch/>
        </p:blipFill>
        <p:spPr>
          <a:xfrm>
            <a:off x="6303960" y="3517920"/>
            <a:ext cx="1071720" cy="1530360"/>
          </a:xfrm>
          <a:prstGeom prst="rect">
            <a:avLst/>
          </a:prstGeom>
          <a:ln w="0">
            <a:noFill/>
          </a:ln>
        </p:spPr>
      </p:pic>
      <p:pic>
        <p:nvPicPr>
          <p:cNvPr id="303" name="Action Button: Custom 21" descr="">
            <a:hlinkClick r:id="rId24" action="ppaction://hlinksldjump"/>
          </p:cNvPr>
          <p:cNvPicPr/>
          <p:nvPr/>
        </p:nvPicPr>
        <p:blipFill>
          <a:blip r:embed="rId25"/>
          <a:stretch/>
        </p:blipFill>
        <p:spPr>
          <a:xfrm>
            <a:off x="7527960" y="3425760"/>
            <a:ext cx="1182600" cy="1622520"/>
          </a:xfrm>
          <a:prstGeom prst="rect">
            <a:avLst/>
          </a:prstGeom>
          <a:ln w="0">
            <a:noFill/>
          </a:ln>
        </p:spPr>
      </p:pic>
      <p:pic>
        <p:nvPicPr>
          <p:cNvPr id="304" name="Action Button: Home 22" descr="">
            <a:hlinkClick r:id="rId26" action="ppaction://hlinksldjump"/>
          </p:cNvPr>
          <p:cNvPicPr/>
          <p:nvPr/>
        </p:nvPicPr>
        <p:blipFill>
          <a:blip r:embed="rId27"/>
          <a:stretch/>
        </p:blipFill>
        <p:spPr>
          <a:xfrm>
            <a:off x="7527960" y="5553000"/>
            <a:ext cx="714240" cy="65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800000"/>
                </a:solidFill>
                <a:latin typeface="Book Antiqua"/>
              </a:rPr>
              <a:t>1) Eight Fold Path</a:t>
            </a: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498600" y="1762200"/>
            <a:ext cx="8146800" cy="436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ff"/>
                </a:solidFill>
                <a:latin typeface="Book Antiqua"/>
              </a:rPr>
              <a:t>RIGHT KNOWLEDGE</a:t>
            </a:r>
            <a:endParaRPr b="0" lang="en-US" sz="3600" spc="-1" strike="noStrike">
              <a:solidFill>
                <a:srgbClr val="6d6452"/>
              </a:solidFill>
              <a:latin typeface="Book Antiqua"/>
            </a:endParaRPr>
          </a:p>
        </p:txBody>
      </p:sp>
      <p:pic>
        <p:nvPicPr>
          <p:cNvPr id="307" name="Action Button: Home 3" descr=""/>
          <p:cNvPicPr/>
          <p:nvPr/>
        </p:nvPicPr>
        <p:blipFill>
          <a:blip r:embed="rId2"/>
          <a:stretch/>
        </p:blipFill>
        <p:spPr>
          <a:xfrm>
            <a:off x="7497720" y="5321160"/>
            <a:ext cx="865080" cy="8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21T18:57:01Z</dcterms:created>
  <dc:creator>Cox, Emily R</dc:creator>
  <dc:description/>
  <dc:language>en-US</dc:language>
  <cp:lastModifiedBy>Cox, Emily R</cp:lastModifiedBy>
  <cp:lastPrinted>2010-12-09T16:29:19Z</cp:lastPrinted>
  <dcterms:modified xsi:type="dcterms:W3CDTF">2010-12-21T19:53:44Z</dcterms:modified>
  <cp:revision>12</cp:revision>
  <dc:subject/>
  <dc:title>BUDDHISM</dc:title>
</cp:coreProperties>
</file>